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60D-9BFA-471F-B038-04A044CB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893-C145-4FFE-BF78-859171A3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3DF-D081-4183-9785-DB76178E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6C4-EEE6-42CF-8BFD-9715B0E2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31B27-475B-4FC5-9579-F95B8FE9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A9AD0-7AC1-4FA5-89B2-DCAB7872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39561-9192-4AB8-B5E7-056F7C7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28F64-CD49-45B0-B680-A4463FFD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BA6E8-D708-4F71-B4E2-F2B5A427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C3395-71DC-4FF6-AF23-C8CD5FB6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99208-6B29-40FC-979E-4C033D15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513-E91C-43BE-8F15-3DD3EEBD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AAFC9-D9E4-41DA-8F58-77C11B7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43832-21CD-46D4-B46B-E08E5D32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4119B-A3DB-4B0A-AB94-A598D450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4C609-3B74-4DBB-8B54-7D22F315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B08D4-11C2-48AB-ABB6-94063821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239-98E0-4FAF-A78F-9442AEDF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BD1-C8DF-44EA-9346-48D99603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2E7-06C2-4F60-B699-7198C204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DF1-B849-4B87-9B5C-35211A6E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49E-2B45-4B15-B46E-ABEAC072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84A-D7A2-43D9-9871-731DB698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4EA-0490-4D92-B5EA-1A9C6EDE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87BF-6637-4998-B2B6-3ED7F9EC933D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883E-13B4-450D-8CD5-07EE9420A142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e3e3ff"/>
                </a:solidFill>
                <a:latin typeface="Arial"/>
              </a:rPr>
              <a:t>THE MARKET ECONOMY &amp; THE CIRCULAR FLOW OF INCOME MODEL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4" descr="j0237176"/>
          <p:cNvPicPr/>
          <p:nvPr/>
        </p:nvPicPr>
        <p:blipFill>
          <a:blip r:embed="rId1"/>
          <a:stretch/>
        </p:blipFill>
        <p:spPr>
          <a:xfrm>
            <a:off x="3419640" y="3357720"/>
            <a:ext cx="24476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THE ROLE OR PRODUC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rms or producers produce goods and services with the factors of production that consumers prov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) They sell these goods in the marketplace for prices acceptable to both buyers and sel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en consumers change their preferences, firms must respond and shift prod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THE MARKET ECONO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ure market economies do not exist in the real world. All countries have governments which are involved in economic decision-making to varying degre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conomies like Australia’s and America’s are called mixed economies or sometimes free enterpr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THE MARKET ECONO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main characteristics of a market economy 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PRICE MECHANISM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– This operates most of the time to clear markets. It is price which determines the allocation of resources and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3e3ff"/>
                </a:solidFill>
                <a:latin typeface="Arial"/>
              </a:rPr>
              <a:t>CHARACTERISTICS OF A MARKET ECONOM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ECONOMIC FREEDOM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– Freedom to choose an occupation, start a business, save, invest, set a price for your product etc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PRIVATE PROPERTY OWNERSHIP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– Private ownership of property is protected by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3e3ff"/>
                </a:solidFill>
                <a:latin typeface="Arial"/>
              </a:rPr>
              <a:t>CHARACTERISTICS OF A MARKET ECONOM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SELF INTEREST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People make decisions based on what is good for themselves. Consumers seek to earn as much income as possible and spend it in a way which maximises their satisfa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CONSUMER SOVEREIGNTY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Consumer preferences decide what producers produce and ultimately what they charge for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MARKET ECONO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free enterprise economy consists of three main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USEHOLDS &amp;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RMS OR PRODU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CIRCULAR FLOW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ing the sheet in front of you fill in the missing boxes to complete the basic circular flow of income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ircular  Flow - Simpl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52280" y="2819520"/>
            <a:ext cx="2514600" cy="5331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Arial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019920" y="2819520"/>
            <a:ext cx="1981080" cy="5331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Arial"/>
              </a:rPr>
              <a:t>Produ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1905120" y="2286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V="1">
            <a:off x="6477120" y="2286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895480" y="213372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590920" y="3733920"/>
            <a:ext cx="3124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Arial"/>
              </a:rPr>
              <a:t>Goods an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647712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90512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2209680" y="4876920"/>
            <a:ext cx="3886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Arial"/>
              </a:rPr>
              <a:t>Consumption Expendi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V="1">
            <a:off x="6781680" y="33523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V="1">
            <a:off x="6781680" y="1828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1600200" y="1828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895480" y="167652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Object 18" descr=""/>
          <p:cNvPicPr/>
          <p:nvPr/>
        </p:nvPicPr>
        <p:blipFill>
          <a:blip r:embed="rId1"/>
          <a:stretch/>
        </p:blipFill>
        <p:spPr>
          <a:xfrm>
            <a:off x="7089840" y="4724280"/>
            <a:ext cx="1438200" cy="145260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>
            <a:off x="1905120" y="22860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5410080" y="22860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 flipH="1">
            <a:off x="5714640" y="3886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1600200" y="50292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609588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H="1">
            <a:off x="1904760" y="3886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 flipH="1">
            <a:off x="5410080" y="1828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 flipH="1">
            <a:off x="1600200" y="1828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THE ROLE OF CONSUM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) Supplies firms with the factors of production (land,labour,capital,enterprise) in return for payments we call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2) People who have no resources to offer would receive no income unless governments stepped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4:25:22Z</dcterms:created>
  <dc:creator>hinks.russell</dc:creator>
  <dc:description/>
  <dc:language>en-US</dc:language>
  <cp:lastModifiedBy>Alison Taylor</cp:lastModifiedBy>
  <dcterms:modified xsi:type="dcterms:W3CDTF">2011-11-22T02:18:41Z</dcterms:modified>
  <cp:revision>5</cp:revision>
  <dc:subject/>
  <dc:title>THE MARKET ECONOMY &amp; THE CIRCULAR FLOW OF INCOME MODEL</dc:title>
</cp:coreProperties>
</file>